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3D2-5A0C-4449-8190-53C946AD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751-147F-467C-906B-12632CD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FF9-97B8-4715-82B5-E168D9C7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E44-C192-409B-8E4D-5FD30F87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11F-6885-49E8-950A-CB38027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ABB-1D3D-4400-9927-29A547E9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BFF-6AC5-40D9-89CA-A0DADB0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D32-7D52-47A1-A785-2337676D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497-B69B-40FD-ABC2-653FDD55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583-86E6-4B85-B059-1F48AD7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7AC-9190-4B9F-AFE1-FBCE7AB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1FD-80A7-422B-8224-DB76D9D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D9B-59DA-46A1-9798-49671E62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1.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ordinat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80" y="1617840"/>
            <a:ext cx="8943840" cy="41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ormed by the intersection of two numbe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438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horizontal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895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vertical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4434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4 areas divided by the x and y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900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here the axes intersect on the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1972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 pair of numbers that gives the coordinates and location of a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4952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 that shows the position left or right of the 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4100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 that shows the position above or below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199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234200" cy="544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2485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676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  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5320"/>
            <a:ext cx="8915400" cy="2803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337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         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81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943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1540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7652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329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914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2, -3)     (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V,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2406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5791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22:43Z</dcterms:created>
  <dc:creator>Susannah Graham</dc:creator>
  <dc:description/>
  <dc:language>en-US</dc:language>
  <cp:lastModifiedBy>Graham</cp:lastModifiedBy>
  <dcterms:modified xsi:type="dcterms:W3CDTF">2011-08-18T12:59:51Z</dcterms:modified>
  <cp:revision>4</cp:revision>
  <dc:subject/>
  <dc:title>Lesson 1.10 The Coordinate Plane</dc:title>
</cp:coreProperties>
</file>